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009-3C32-4A6B-BE1A-E812A101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E96-5313-4B7F-B431-734AD61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7EE-C025-4AF3-A702-E8C16D0E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7B0-0337-42D8-A029-D2FE6D4A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ACA-19CB-4844-AF22-6AAED9F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9DD-6C0F-43C7-814D-F27FF19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8B-1EB8-4B36-BFAA-05AC7DD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E64-E999-4F49-8101-A369453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95D-6BFA-4BBF-AB4C-DDF1A5E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9BA-AB66-4298-956E-0D02154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57D-0C9F-41E2-AC5E-918F10D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E8A-1705-440F-A03D-A83090A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398D-CB09-44D6-9D8D-D7EAE81E833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.1. На условно разрешенный вид использования (размещение гаражей для собственных нужд) земельного участка площадью 28 кв.м, расположенного по адресу: Российская Федерация, Брянская область, город Брянск, на территории котельной по улице Любезного, находящегося в зоне застройки среднеэтажными многоквартирными  домами (Ж-3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04640" y="750960"/>
            <a:ext cx="8237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туационная схем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.4. На условно разрешенный вид использования (для индивидуального жилищного строительства) земельного участка с кадастровым номером 32:28:0031120:44, площадью 1310 кв.м, расположенного по адресу: Российская Федерация, Брянская область, город Брянск, проезд Советский, дом 5, находящегося в зоне застройки среднеэтажными многоквартирными  домами (Ж-3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465120" y="853920"/>
            <a:ext cx="8237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туационная схем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257480"/>
            <a:ext cx="91440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4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6000" y="600120"/>
          <a:ext cx="3827520" cy="5370480"/>
        </p:xfrm>
        <a:graphic>
          <a:graphicData uri="http://schemas.openxmlformats.org/drawingml/2006/table">
            <a:tbl>
              <a:tblPr/>
              <a:tblGrid>
                <a:gridCol w="1944720"/>
                <a:gridCol w="1882800"/>
              </a:tblGrid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, Брянская область, город Брянск, проезд Советский, дом 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номер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:28:0031120:4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формирования земельного участка под дом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ое отклонение от предельных параметров разрешенного строительства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для индивидуального жилищного строительства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97160" y="1333440"/>
            <a:ext cx="50468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4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7320" y="409680"/>
            <a:ext cx="887076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.5. На условно разрешенный вид использования (для индивидуального жилищного строительства) земельного участка  с кадастровым номером 32:28:0032601:3, площадью 728 кв.м, местоположение которого установлено относительно ориентира, расположенного в границах участка. Почтовый адрес ориентира: Российская Федерация, Брянская область, город Брянск, СО Коммунальник, участок 1А, находящегося в зоне ведения садоводства (Ж-5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65120" y="853920"/>
            <a:ext cx="8237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туационная схем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5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6000" y="600120"/>
          <a:ext cx="3827520" cy="5979960"/>
        </p:xfrm>
        <a:graphic>
          <a:graphicData uri="http://schemas.openxmlformats.org/drawingml/2006/table">
            <a:tbl>
              <a:tblPr/>
              <a:tblGrid>
                <a:gridCol w="1944720"/>
                <a:gridCol w="1882800"/>
              </a:tblGrid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положение установлено относительно ориентира, расположенного в границах участка. Почтовый адрес ориентира: Российская Федерация, Брянская область, город Брянск, СО Коммунальник, участок 1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номер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:28:0032601: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8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роживания и получения регистр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ое отклонение от предельных параметров разрешенного строительства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для индивидуального жилищного строительства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52960" y="942840"/>
            <a:ext cx="49910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4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49440"/>
            <a:ext cx="4276800" cy="570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4840" y="1665360"/>
            <a:ext cx="4799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.6. На отклонение от предельных параметров разрешенного строительства (минимальная площадь земельного участка (среднеэтажная жилая застройка) – 920 кв.м) на земельном участке ориентировочной площадью 920 кв.м, расположенном по адресу: Российская Федерация, Брянская область, город Брянск, улица Спартаковская, дом 124А, находящемся в зоне застройки среднеэтажными многоквартирными  домами  (Ж-3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419880"/>
            <a:ext cx="9144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бращение управления имущественных и земельных отношений Б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6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6000" y="600120"/>
          <a:ext cx="3827520" cy="5370480"/>
        </p:xfrm>
        <a:graphic>
          <a:graphicData uri="http://schemas.openxmlformats.org/drawingml/2006/table">
            <a:tbl>
              <a:tblPr/>
              <a:tblGrid>
                <a:gridCol w="1944720"/>
                <a:gridCol w="1882800"/>
              </a:tblGrid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, Брянская область, город Брянск, улица Спартаковская, дом 124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кварта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:28:003280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ое отклонение от предельных параметров разрешенного строительства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минимальная площадь земельного участка (среднеэтажная жилая застройка) – 920 кв.м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70480" y="455760"/>
            <a:ext cx="42289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6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6419880"/>
            <a:ext cx="9144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бращение управления имущественных и земельных отношений Б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480" y="339840"/>
            <a:ext cx="4500360" cy="600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29240" y="34308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1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6000" y="600120"/>
          <a:ext cx="3827160" cy="5227560"/>
        </p:xfrm>
        <a:graphic>
          <a:graphicData uri="http://schemas.openxmlformats.org/drawingml/2006/table">
            <a:tbl>
              <a:tblPr/>
              <a:tblGrid>
                <a:gridCol w="1944720"/>
                <a:gridCol w="1882440"/>
              </a:tblGrid>
              <a:tr h="38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Брянск, на территории котельной по улице Любезног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кварта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:28:00325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формирования земельного участка под гараж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7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ый условно разрешенный ви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змещение гаражей для собственных нужд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6200" y="388800"/>
            <a:ext cx="436716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960" y="392040"/>
            <a:ext cx="84409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.2. На отклонение от предельных параметров разрешенного строительства (минимальная площадь земельного участка (малоэтажная многоквартирная жилая застройка) – 632 кв.м) на земельном участке ориентировочной площадью 632 кв.м, расположенном по адресу: Российская Федерация, Брянская область, город Брянск, улица Урицкого, дом 128, находящемся в зоне застройки индивидуальными жилыми домами и  домами блокированной застройки  (Ж-2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465120" y="853920"/>
            <a:ext cx="8237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туационная схем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30644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2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6000" y="600120"/>
          <a:ext cx="3827520" cy="5403960"/>
        </p:xfrm>
        <a:graphic>
          <a:graphicData uri="http://schemas.openxmlformats.org/drawingml/2006/table">
            <a:tbl>
              <a:tblPr/>
              <a:tblGrid>
                <a:gridCol w="1944720"/>
                <a:gridCol w="1882800"/>
              </a:tblGrid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, Брянская область, город Брянск, улица Урицкого, дом 1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кварта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:28:00334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формирования земельного участка под дом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ое отклонение от предельных параметров разрешенного строительства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минимальная площадь земельного участка (малоэтажная многоквартирная жилая застройка) – 632 кв.м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4680" y="449280"/>
            <a:ext cx="43293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2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65600" y="514440"/>
            <a:ext cx="4376880" cy="583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4080" y="504720"/>
            <a:ext cx="43862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.3. На отклонение от предельных параметров разрешенного строительства (минимальная площадь земельного участка (среднеэтажная жилая застройка) – 2230 кв.м) на земельном участке ориентировочной площадью 2230 кв.м, расположенном по адресу: Российская Федерация, Брянская область, город Брянск, улица Костычева, дом 33, находящемся в зоне застройки среднеэтажными многоквартирными  домами  (Ж-3).</a:t>
            </a:r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65120" y="853920"/>
            <a:ext cx="8237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итуационная схем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7720" y="0"/>
            <a:ext cx="614052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хема  организации земельного участк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вопрос 2.3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6000" y="600120"/>
          <a:ext cx="3827520" cy="5370480"/>
        </p:xfrm>
        <a:graphic>
          <a:graphicData uri="http://schemas.openxmlformats.org/drawingml/2006/table">
            <a:tbl>
              <a:tblPr/>
              <a:tblGrid>
                <a:gridCol w="1944720"/>
                <a:gridCol w="1882800"/>
              </a:tblGrid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ител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ое лиц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, Брянская область, город Брянск, улица Костычева, дом 3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астровый кварта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:28:00311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земельного участк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0 кв.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заявител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формирования земельного участка под дом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ава пользования земельным участ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ость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огласно карты градостроительного зонирова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шиваемое отклонение от предельных параметров разрешенного строительства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минимальная площадь земельного участка (среднеэтажная жилая застройка) – 2230 кв.м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49800" y="395280"/>
            <a:ext cx="45608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592280" y="0"/>
            <a:ext cx="62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тографии земельного участка по вопросу 2.3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53000" y="441360"/>
            <a:ext cx="4416480" cy="5888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3320" y="442800"/>
            <a:ext cx="44082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33:10Z</dcterms:created>
  <dc:creator>Волкова</dc:creator>
  <dc:description/>
  <dc:language>en-US</dc:language>
  <cp:lastModifiedBy>Фащилина</cp:lastModifiedBy>
  <dcterms:modified xsi:type="dcterms:W3CDTF">2023-09-25T12:59:43Z</dcterms:modified>
  <cp:revision>2359</cp:revision>
  <dc:subject/>
  <dc:title>ЗАСЕДАНИЕ КОМИССИИ  ПО ПОДГОТОВКЕ ПРОЕКТА ПРАВИЛ ЗЕМЛЕПОЛЬЗОВАНИЯ               И ЗАСТРОЙКИ ГОРОДА БРЯНСКА от  19 октября 2012 года город Брянск</dc:title>
</cp:coreProperties>
</file>